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597-08BA-4726-8136-607CBEAD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C9B-7C0C-4B61-8451-4BB904FA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2F3-7181-461A-8249-DE91FC7E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185-44C3-40FF-A2C2-DBF8D7EA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C87-C9B2-43C7-B029-20B9A7E7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AE7F-3B90-4753-8E2B-BC79393C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3ED-DF0D-4B84-BD3D-7D630E8B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3FD-71E1-4B7F-9FB6-88BC4ACE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208-7712-4446-9F7C-79ABE5E4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203-1146-425D-823A-175227CC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241-586A-467F-9723-01D7358C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2E3-DE25-4F32-B5F9-FAB180C3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B4B87-FE73-4AB1-ABC7-74AC613A74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2F78D-560F-447B-87FD-C93D9498E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3219480" y="4259160"/>
            <a:ext cx="2651040" cy="8874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6626160" y="345960"/>
            <a:ext cx="182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obo Std"/>
                <a:ea typeface="Handwriting - Dakota"/>
              </a:rPr>
              <a:t>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obo Std"/>
                <a:ea typeface="Handwriting - Dakota"/>
              </a:rPr>
              <a:t>3-Fold Broch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6626160" y="5300640"/>
            <a:ext cx="21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obo Std"/>
                <a:ea typeface="Handwriting - Dakota"/>
              </a:rPr>
              <a:t>Samantha 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obo Std"/>
                <a:ea typeface="Handwriting - Dakota"/>
              </a:rPr>
              <a:t>October 6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3246480" y="345960"/>
            <a:ext cx="265104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Hobo Std"/>
              </a:rPr>
              <a:t>Contr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Most effective way to use contrast is for it to be very strong. _x0002_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on’t be a wimp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 to consid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Std"/>
                <a:ea typeface="Brush Script Std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For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3152"/>
                </a:solidFill>
                <a:latin typeface="Book Antiqua"/>
                <a:ea typeface="Times New Roman"/>
              </a:rPr>
              <a:t>Use different pictures, backgrounds, and drawings to show contra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6"/>
          <p:cNvSpPr/>
          <p:nvPr/>
        </p:nvSpPr>
        <p:spPr>
          <a:xfrm>
            <a:off x="187200" y="345960"/>
            <a:ext cx="237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Arial Black"/>
              </a:rPr>
              <a:t>Al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7"/>
          <p:cNvSpPr/>
          <p:nvPr/>
        </p:nvSpPr>
        <p:spPr>
          <a:xfrm>
            <a:off x="0" y="116064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Flush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8"/>
          <p:cNvSpPr/>
          <p:nvPr/>
        </p:nvSpPr>
        <p:spPr>
          <a:xfrm>
            <a:off x="1284120" y="117324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Flush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9"/>
          <p:cNvSpPr/>
          <p:nvPr/>
        </p:nvSpPr>
        <p:spPr>
          <a:xfrm>
            <a:off x="34920" y="1685880"/>
            <a:ext cx="2530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4 Important Elem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1. Visual conne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 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3. Try not to over us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4. Just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 rot="3525600">
            <a:off x="4860720" y="3341880"/>
            <a:ext cx="11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6450120" y="1685880"/>
            <a:ext cx="2444760" cy="345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187200" y="3075120"/>
            <a:ext cx="23274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5"/>
          <p:cNvSpPr/>
          <p:nvPr/>
        </p:nvSpPr>
        <p:spPr>
          <a:xfrm>
            <a:off x="190440" y="299880"/>
            <a:ext cx="232884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Hobo Std"/>
              </a:rPr>
              <a:t>Re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Repeat an aspect of the design throughout the entire wor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Keep it consis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Fo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ype 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lig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i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ullets &amp; numb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urpose is to unify and add visual inter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3587760" y="307800"/>
            <a:ext cx="176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Hobo Std"/>
              </a:rPr>
              <a:t>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166920" y="952560"/>
            <a:ext cx="2602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rouping related items toge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t shows a relationship to the item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nrelated items need to be sepa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0"/>
          <p:cNvSpPr/>
          <p:nvPr/>
        </p:nvSpPr>
        <p:spPr>
          <a:xfrm flipV="1">
            <a:off x="2963880" y="4556160"/>
            <a:ext cx="3005280" cy="25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6251400" y="307800"/>
            <a:ext cx="23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Hobo Std"/>
              </a:rPr>
              <a:t>Fo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6353280" y="936720"/>
            <a:ext cx="193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3 major famil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 San Se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400" spc="-1" strike="noStrike">
                <a:solidFill>
                  <a:srgbClr val="000000"/>
                </a:solidFill>
                <a:latin typeface="Edwardian Script ITC"/>
                <a:ea typeface="Edwardian Script ITC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6353280" y="2293920"/>
            <a:ext cx="222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u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wo fonts per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ne se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(tex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ne san se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(headin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"/>
          <p:cNvPicPr/>
          <p:nvPr/>
        </p:nvPicPr>
        <p:blipFill>
          <a:blip r:embed="rId1"/>
          <a:stretch/>
        </p:blipFill>
        <p:spPr>
          <a:xfrm>
            <a:off x="76320" y="4670280"/>
            <a:ext cx="2670120" cy="173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"/>
          <p:cNvPicPr/>
          <p:nvPr/>
        </p:nvPicPr>
        <p:blipFill>
          <a:blip r:embed="rId2"/>
          <a:stretch/>
        </p:blipFill>
        <p:spPr>
          <a:xfrm>
            <a:off x="3809880" y="2600280"/>
            <a:ext cx="1208160" cy="18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"/>
          <p:cNvPicPr/>
          <p:nvPr/>
        </p:nvPicPr>
        <p:blipFill>
          <a:blip r:embed="rId3"/>
          <a:stretch/>
        </p:blipFill>
        <p:spPr>
          <a:xfrm>
            <a:off x="6353280" y="4581360"/>
            <a:ext cx="225576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6:23:06Z</dcterms:created>
  <dc:creator>GCALab</dc:creator>
  <dc:description/>
  <dc:language>en-US</dc:language>
  <cp:lastModifiedBy>GCALab</cp:lastModifiedBy>
  <cp:lastPrinted>2009-10-06T17:52:04Z</cp:lastPrinted>
  <dcterms:modified xsi:type="dcterms:W3CDTF">2009-10-08T18:00:05Z</dcterms:modified>
  <cp:revision>17</cp:revision>
  <dc:subject/>
  <dc:title>Slide 1</dc:title>
</cp:coreProperties>
</file>