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AEE-56D1-430D-8EBF-453AE435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F35-28FC-492B-BDC1-D6508336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D0F-43A8-400E-AB4F-E6AF7628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7C4-9429-49D1-8AE6-91A44CCD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E77-E9ED-45AD-9DE2-2210B888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191-4611-46FE-B533-62AC1550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7D1-CB8C-4ACD-8DD1-88119CEF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D34-E594-4324-9C76-02C9D375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3AB-FD2C-4D51-A1CE-2D5A49BC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763-0905-4B52-A18F-B38BAEC9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DC3-3322-4325-A00E-C676124A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1E4-FA4A-417D-8A0E-81A19CDF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9BEAB-13C3-4E15-958C-8D0FADFC42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31454-E25F-460E-A870-456E845C9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219480" y="4259160"/>
            <a:ext cx="2651040" cy="887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626160" y="345960"/>
            <a:ext cx="182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3-Fold Broch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6626160" y="5300640"/>
            <a:ext cx="21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Samantha 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obo Std"/>
                <a:ea typeface="Handwriting - Dakota"/>
              </a:rPr>
              <a:t>October 6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3246480" y="345960"/>
            <a:ext cx="265104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Cont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ost effective way to use contrast is for it to be very strong. _x0002_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on’t be a wimp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to consid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Std"/>
                <a:ea typeface="Brush Script Std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3152"/>
                </a:solidFill>
                <a:latin typeface="Book Antiqua"/>
                <a:ea typeface="Times New Roman"/>
              </a:rPr>
              <a:t>Use different pictures, backgrounds, and drawings to show contra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6"/>
          <p:cNvSpPr/>
          <p:nvPr/>
        </p:nvSpPr>
        <p:spPr>
          <a:xfrm>
            <a:off x="187200" y="345960"/>
            <a:ext cx="237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Arial Black"/>
              </a:rPr>
              <a:t>Al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7"/>
          <p:cNvSpPr/>
          <p:nvPr/>
        </p:nvSpPr>
        <p:spPr>
          <a:xfrm>
            <a:off x="0" y="116064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lush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8"/>
          <p:cNvSpPr/>
          <p:nvPr/>
        </p:nvSpPr>
        <p:spPr>
          <a:xfrm>
            <a:off x="1284120" y="117324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lush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9"/>
          <p:cNvSpPr/>
          <p:nvPr/>
        </p:nvSpPr>
        <p:spPr>
          <a:xfrm>
            <a:off x="34920" y="1685880"/>
            <a:ext cx="2530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4 Important Elem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1. Visual conne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 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3. Try not to over us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4. Just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 rot="3525600">
            <a:off x="4860720" y="3341880"/>
            <a:ext cx="11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6450120" y="1685880"/>
            <a:ext cx="2444760" cy="345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187200" y="3075120"/>
            <a:ext cx="23274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190440" y="299880"/>
            <a:ext cx="232884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Re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epeat an aspect of the design throughout the entire wor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Keep it consis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o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ype 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l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ullets &amp; numb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urpose is to unify and add visual inter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587760" y="307800"/>
            <a:ext cx="176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166920" y="952560"/>
            <a:ext cx="2602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rouping related items tog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t shows a relationship to the ite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related items need to be sepa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0"/>
          <p:cNvSpPr/>
          <p:nvPr/>
        </p:nvSpPr>
        <p:spPr>
          <a:xfrm flipV="1">
            <a:off x="2963880" y="4556160"/>
            <a:ext cx="3005280" cy="25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6251400" y="307800"/>
            <a:ext cx="23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obo Std"/>
                <a:ea typeface="Hobo Std"/>
              </a:rPr>
              <a:t>Fo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6353280" y="936720"/>
            <a:ext cx="193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3 major famil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 San 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Edwardian Script ITC"/>
                <a:ea typeface="Edwardian Script ITC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6353280" y="2293920"/>
            <a:ext cx="222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u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wo fonts per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ne 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(tex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ne san se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(headin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1"/>
          <a:stretch/>
        </p:blipFill>
        <p:spPr>
          <a:xfrm>
            <a:off x="76320" y="4670280"/>
            <a:ext cx="2670120" cy="173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3809880" y="2600280"/>
            <a:ext cx="1208160" cy="18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3"/>
          <a:stretch/>
        </p:blipFill>
        <p:spPr>
          <a:xfrm>
            <a:off x="6353280" y="4581360"/>
            <a:ext cx="22557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6:23:06Z</dcterms:created>
  <dc:creator>GCALab</dc:creator>
  <dc:description/>
  <dc:language>en-US</dc:language>
  <cp:lastModifiedBy>GCALab</cp:lastModifiedBy>
  <cp:lastPrinted>2009-10-06T17:52:04Z</cp:lastPrinted>
  <dcterms:modified xsi:type="dcterms:W3CDTF">2009-10-08T18:00:05Z</dcterms:modified>
  <cp:revision>17</cp:revision>
  <dc:subject/>
  <dc:title>Slide 1</dc:title>
</cp:coreProperties>
</file>