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4A42-1124-401D-A7B3-8172B4622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0C55-93DE-4A0A-9DC6-9F8E09DB0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7493-D319-4356-A4CD-FFFB84934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EB0A-90D2-458C-B027-D681A16B8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453E-CAF6-4C60-A21A-81530553A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9F06-AC4A-493A-A07C-40F17AD0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A021-1442-43FA-94F5-735D4D733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F426-3B65-45F8-A5AA-10FDBD79C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E796-2A2B-40DC-9459-7C06663F8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8141-E4D8-4AC6-AC00-76E731D2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9268-C926-44B4-8FB7-D01376D2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D39D-BC27-43C3-8099-8CF15685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44BB9D-40B7-4278-9624-115E8B0333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C397CB-6CF7-4F23-AC7F-1924955514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1"/>
          <p:cNvSpPr/>
          <p:nvPr/>
        </p:nvSpPr>
        <p:spPr>
          <a:xfrm>
            <a:off x="3219480" y="4259160"/>
            <a:ext cx="2651040" cy="8874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6626160" y="345960"/>
            <a:ext cx="1825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obo Std"/>
                <a:ea typeface="Handwriting - Dakota"/>
              </a:rPr>
              <a:t>Design Princi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obo Std"/>
                <a:ea typeface="Handwriting - Dakota"/>
              </a:rPr>
              <a:t>3-Fold Broch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9"/>
          <p:cNvSpPr/>
          <p:nvPr/>
        </p:nvSpPr>
        <p:spPr>
          <a:xfrm>
            <a:off x="6626160" y="5300640"/>
            <a:ext cx="212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obo Std"/>
                <a:ea typeface="Handwriting - Dakota"/>
              </a:rPr>
              <a:t>Samantha 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obo Std"/>
                <a:ea typeface="Handwriting - Dakota"/>
              </a:rPr>
              <a:t>October 6,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0"/>
          <p:cNvSpPr/>
          <p:nvPr/>
        </p:nvSpPr>
        <p:spPr>
          <a:xfrm>
            <a:off x="3246480" y="345960"/>
            <a:ext cx="2651040" cy="49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obo Std"/>
                <a:ea typeface="Hobo Std"/>
              </a:rPr>
              <a:t>Contra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Most effective way to use contrast is for it to be very strong. _x0002_</a:t>
            </a:r>
            <a:r>
              <a:rPr b="1" lang="en-US" sz="1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Don’t be a wimp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ngs to consid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We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rush Script Std"/>
                <a:ea typeface="Brush Script Std"/>
              </a:rPr>
              <a:t>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For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Co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03152"/>
                </a:solidFill>
                <a:latin typeface="Book Antiqua"/>
                <a:ea typeface="Times New Roman"/>
              </a:rPr>
              <a:t>Use different pictures, backgrounds, and drawings to show contra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6"/>
          <p:cNvSpPr/>
          <p:nvPr/>
        </p:nvSpPr>
        <p:spPr>
          <a:xfrm>
            <a:off x="187200" y="345960"/>
            <a:ext cx="2378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obo Std"/>
                <a:ea typeface="Arial Black"/>
              </a:rPr>
              <a:t>Align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7"/>
          <p:cNvSpPr/>
          <p:nvPr/>
        </p:nvSpPr>
        <p:spPr>
          <a:xfrm>
            <a:off x="0" y="1160640"/>
            <a:ext cx="128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Flush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8"/>
          <p:cNvSpPr/>
          <p:nvPr/>
        </p:nvSpPr>
        <p:spPr>
          <a:xfrm>
            <a:off x="1284120" y="1173240"/>
            <a:ext cx="14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Flush R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9"/>
          <p:cNvSpPr/>
          <p:nvPr/>
        </p:nvSpPr>
        <p:spPr>
          <a:xfrm>
            <a:off x="34920" y="1685880"/>
            <a:ext cx="2530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4 Important Element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1. Visual connec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2. Un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3. Try not to over use ce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4. Justif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3"/>
          <p:cNvSpPr/>
          <p:nvPr/>
        </p:nvSpPr>
        <p:spPr>
          <a:xfrm rot="3525600">
            <a:off x="4860720" y="3341880"/>
            <a:ext cx="11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2" descr=""/>
          <p:cNvPicPr/>
          <p:nvPr/>
        </p:nvPicPr>
        <p:blipFill>
          <a:blip r:embed="rId1"/>
          <a:stretch/>
        </p:blipFill>
        <p:spPr>
          <a:xfrm>
            <a:off x="6450120" y="1685880"/>
            <a:ext cx="2444760" cy="3457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" descr=""/>
          <p:cNvPicPr/>
          <p:nvPr/>
        </p:nvPicPr>
        <p:blipFill>
          <a:blip r:embed="rId2"/>
          <a:stretch/>
        </p:blipFill>
        <p:spPr>
          <a:xfrm>
            <a:off x="187200" y="3075120"/>
            <a:ext cx="232740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5"/>
          <p:cNvSpPr/>
          <p:nvPr/>
        </p:nvSpPr>
        <p:spPr>
          <a:xfrm>
            <a:off x="190440" y="299880"/>
            <a:ext cx="2328840" cy="41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obo Std"/>
                <a:ea typeface="Hobo Std"/>
              </a:rPr>
              <a:t>Repet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Repeat an aspect of the design throughout the entire work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Keep it consist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Fo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Type 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Align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Pic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Bullets &amp; numb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Purpose is to unify and add visual intere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3587760" y="307800"/>
            <a:ext cx="1760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obo Std"/>
                <a:ea typeface="Hobo Std"/>
              </a:rPr>
              <a:t>Proxim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3166920" y="952560"/>
            <a:ext cx="26020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Grouping related items toge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It shows a relationship to the item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nrelated items need to be separ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10"/>
          <p:cNvSpPr/>
          <p:nvPr/>
        </p:nvSpPr>
        <p:spPr>
          <a:xfrm flipV="1">
            <a:off x="2963880" y="4556160"/>
            <a:ext cx="3005280" cy="252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1"/>
          <p:cNvSpPr/>
          <p:nvPr/>
        </p:nvSpPr>
        <p:spPr>
          <a:xfrm>
            <a:off x="6251400" y="307800"/>
            <a:ext cx="232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obo Std"/>
                <a:ea typeface="Hobo Std"/>
              </a:rPr>
              <a:t>Fo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2"/>
          <p:cNvSpPr/>
          <p:nvPr/>
        </p:nvSpPr>
        <p:spPr>
          <a:xfrm>
            <a:off x="6353280" y="936720"/>
            <a:ext cx="1930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3 major famili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. San Ser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en-US" sz="1400" spc="-1" strike="noStrike">
                <a:solidFill>
                  <a:srgbClr val="000000"/>
                </a:solidFill>
                <a:latin typeface="Edwardian Script ITC"/>
                <a:ea typeface="Edwardian Script ITC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4"/>
          <p:cNvSpPr/>
          <p:nvPr/>
        </p:nvSpPr>
        <p:spPr>
          <a:xfrm>
            <a:off x="6353280" y="2293920"/>
            <a:ext cx="2227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Rul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Two fonts per p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one ser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(tex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one san ser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(headin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3" descr=""/>
          <p:cNvPicPr/>
          <p:nvPr/>
        </p:nvPicPr>
        <p:blipFill>
          <a:blip r:embed="rId1"/>
          <a:stretch/>
        </p:blipFill>
        <p:spPr>
          <a:xfrm>
            <a:off x="76320" y="4670280"/>
            <a:ext cx="2670120" cy="1739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" descr=""/>
          <p:cNvPicPr/>
          <p:nvPr/>
        </p:nvPicPr>
        <p:blipFill>
          <a:blip r:embed="rId2"/>
          <a:stretch/>
        </p:blipFill>
        <p:spPr>
          <a:xfrm>
            <a:off x="3809880" y="2600280"/>
            <a:ext cx="1208160" cy="1820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6" descr=""/>
          <p:cNvPicPr/>
          <p:nvPr/>
        </p:nvPicPr>
        <p:blipFill>
          <a:blip r:embed="rId3"/>
          <a:stretch/>
        </p:blipFill>
        <p:spPr>
          <a:xfrm>
            <a:off x="6353280" y="4581360"/>
            <a:ext cx="2255760" cy="19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6:23:06Z</dcterms:created>
  <dc:creator>GCALab</dc:creator>
  <dc:description/>
  <dc:language>en-US</dc:language>
  <cp:lastModifiedBy>GCALab</cp:lastModifiedBy>
  <cp:lastPrinted>2009-10-06T17:52:04Z</cp:lastPrinted>
  <dcterms:modified xsi:type="dcterms:W3CDTF">2009-10-08T18:00:05Z</dcterms:modified>
  <cp:revision>17</cp:revision>
  <dc:subject/>
  <dc:title>Slide 1</dc:title>
</cp:coreProperties>
</file>